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4C9-9019-478E-B985-86679D01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FE5-9FEA-4EB0-8BAB-C6541EE2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BCF-E23F-4265-B363-7236740E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C8D-4E5D-4405-BE94-AD260CBF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437F-C875-4AEC-B67D-7EC33481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A3FF-64AB-48DA-885C-51E7F676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5E2-2472-4F9C-AA84-79BED6D9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77B5-F2D1-4778-886E-4262C02F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60FC-2973-4CDE-A80B-358CF03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707A-04B0-44AD-866E-51AA013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A9E1-5320-476D-96FC-866CA44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7BE-09A0-46A1-8586-0CAF01D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854-DE9D-43D7-AFAB-1591B726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50F2-AB10-49C9-962B-6B9D73E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19C8-B092-402A-B12C-58C6F39D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97E8-1DD0-4FCA-8BDD-2F6CBC6D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A79F-6263-4217-AD59-7FCEAD01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3F5-ADED-4094-A054-06519E91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30D-D32F-4807-B494-88397D2C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0BB-C5A8-41D0-A358-E8DD207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927-330F-44AF-AC10-EA44C565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D79-482A-46F3-A067-02E5FEEC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918-DA10-4E42-B5DE-DBD91E6D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0E6-C8A4-4C5C-A1C8-E04C52D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5E26-09B7-464E-8CC0-6ACDCC77B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9432-7C82-482D-B4E7-122E2DA06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nspiration.com/" TargetMode="External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 Rounded MT Bold"/>
              </a:rPr>
              <a:t>Getting Started with Inspira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660840"/>
            <a:ext cx="66294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wago Valley School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ly A.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Outline  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2514600" y="2133720"/>
            <a:ext cx="5477040" cy="342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4572000" y="1600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5562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47920" y="53341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81080" y="24382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266720" y="1905120"/>
            <a:ext cx="1295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ndard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0200" y="2514240"/>
            <a:ext cx="2362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7590"/>
          <a:stretch/>
        </p:blipFill>
        <p:spPr>
          <a:xfrm>
            <a:off x="457200" y="1447920"/>
            <a:ext cx="8077320" cy="969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2971800" y="9144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514240"/>
            <a:ext cx="2362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op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2590560"/>
            <a:ext cx="388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0" t="0" r="0" b="87590"/>
          <a:stretch/>
        </p:blipFill>
        <p:spPr>
          <a:xfrm>
            <a:off x="457200" y="1447920"/>
            <a:ext cx="8077320" cy="969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3276720" y="990720"/>
            <a:ext cx="1752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ting Toolbar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line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599840"/>
            <a:ext cx="56390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t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De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Prefix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87590" r="0" b="3600"/>
          <a:stretch/>
        </p:blipFill>
        <p:spPr>
          <a:xfrm>
            <a:off x="457200" y="5181480"/>
            <a:ext cx="8153280" cy="609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Templates  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77240" cy="44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Learn to Use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914400" y="1447920"/>
            <a:ext cx="7315200" cy="457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TRL +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Topics Ind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Vide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’s Manual.p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www.inspiration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Resources from other tea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What is it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oftware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Visualize – Think – 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ess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raphic Organiz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udent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owerPoint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Launch  progra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Use the Inspiration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tart &gt; Programs &gt; 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933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Starter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93388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114800" y="1752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t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00" y="1744560"/>
            <a:ext cx="14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82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ea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44193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057400"/>
            <a:ext cx="1524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43040" y="205740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28840" y="2057400"/>
            <a:ext cx="21337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409720" y="44193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Rounded MT Bold"/>
              </a:rPr>
              <a:t>Diagram</a:t>
            </a: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  Scre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426708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533520" y="3505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Pa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486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ing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66720" y="2362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352680" y="51814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1905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Tool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286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ndard Toolbar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251424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9360" y="25146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-6000"/>
          </a:blip>
          <a:srcRect l="0" t="0" r="0" b="87603"/>
          <a:stretch/>
        </p:blipFill>
        <p:spPr>
          <a:xfrm>
            <a:off x="380880" y="1371600"/>
            <a:ext cx="8305920" cy="85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>
            <a:off x="3200040" y="9907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Toolbar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3124080"/>
            <a:ext cx="3886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lum contrast="-6000"/>
          </a:blip>
          <a:srcRect l="0" t="0" r="0" b="87603"/>
          <a:stretch/>
        </p:blipFill>
        <p:spPr>
          <a:xfrm>
            <a:off x="380880" y="1981080"/>
            <a:ext cx="8305920" cy="833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3429000" y="99072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ymbol Palette 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2000" r="90604" b="32404"/>
          <a:stretch/>
        </p:blipFill>
        <p:spPr>
          <a:xfrm>
            <a:off x="1828800" y="1600200"/>
            <a:ext cx="16542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rmatting Toolbar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ram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886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 in an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 t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038120" y="1523880"/>
            <a:ext cx="44960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/Apply Defaul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form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dge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 and Lin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-6000"/>
          </a:blip>
          <a:srcRect l="0" t="88803" r="0" b="4800"/>
          <a:stretch/>
        </p:blipFill>
        <p:spPr>
          <a:xfrm>
            <a:off x="380880" y="5181480"/>
            <a:ext cx="8305920" cy="487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3:57:23Z</dcterms:created>
  <dc:creator>Sally A.Miller</dc:creator>
  <dc:description/>
  <dc:language>en-US</dc:language>
  <cp:lastModifiedBy>harbaughr</cp:lastModifiedBy>
  <dcterms:modified xsi:type="dcterms:W3CDTF">2006-10-09T11:26:19Z</dcterms:modified>
  <cp:revision>29</cp:revision>
  <dc:subject/>
  <dc:title>Getting Started with Inspiration</dc:title>
</cp:coreProperties>
</file>